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451-FB45-4CC3-93A1-7CA35AB4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660-16F8-475E-8142-39365505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573-6FF7-4E19-9F2C-14910843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A21-AB78-4995-A07E-EDBF5BE8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A0A-DA2F-4369-9486-EF19F4B6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ADF-30A1-4343-BC3E-8A94C278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41D-2B1D-4002-A5AC-A55D3079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B17-48E7-4D4B-BCA9-F0DE0836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B7B-BFB5-4D90-B9A0-BE1C30A1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B60-04CD-4DE5-A93B-8B41BD2E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46E-B2FC-4576-A003-C5FADB7F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FD8-06BC-4B48-A0E2-20510960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4795-D2BD-4AA7-B085-732079BAB7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END  ASSOC                   WEST  END  ASSOC.         EDINBURGH  EX  PRESIDENTS        EX  PRESIDENTS              EX  PRESIDENTS  75TH            EDINBURGH  SECRETA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0" descr="West End Assoc 2.JPG"/>
          <p:cNvPicPr/>
          <p:nvPr/>
        </p:nvPicPr>
        <p:blipFill>
          <a:blip r:embed="rId1"/>
          <a:stretch/>
        </p:blipFill>
        <p:spPr>
          <a:xfrm>
            <a:off x="1857240" y="260280"/>
            <a:ext cx="1133640" cy="1244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1" descr="Edinburgh Ex Presidents.JPG"/>
          <p:cNvPicPr/>
          <p:nvPr/>
        </p:nvPicPr>
        <p:blipFill>
          <a:blip r:embed="rId2"/>
          <a:stretch/>
        </p:blipFill>
        <p:spPr>
          <a:xfrm>
            <a:off x="3297240" y="189000"/>
            <a:ext cx="128124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2" descr="Edinburgh Secretaries.JPG"/>
          <p:cNvPicPr/>
          <p:nvPr/>
        </p:nvPicPr>
        <p:blipFill>
          <a:blip r:embed="rId3"/>
          <a:stretch/>
        </p:blipFill>
        <p:spPr>
          <a:xfrm>
            <a:off x="7905600" y="189000"/>
            <a:ext cx="1024200" cy="128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Edinburgh Ex Pres. 75th.jpg"/>
          <p:cNvPicPr/>
          <p:nvPr/>
        </p:nvPicPr>
        <p:blipFill>
          <a:blip r:embed="rId4"/>
          <a:stretch/>
        </p:blipFill>
        <p:spPr>
          <a:xfrm>
            <a:off x="6105600" y="333360"/>
            <a:ext cx="1211040" cy="115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4" descr="Edinburgh Secretaries Millennium.JPG"/>
          <p:cNvPicPr/>
          <p:nvPr/>
        </p:nvPicPr>
        <p:blipFill>
          <a:blip r:embed="rId5"/>
          <a:stretch/>
        </p:blipFill>
        <p:spPr>
          <a:xfrm>
            <a:off x="200160" y="1916280"/>
            <a:ext cx="10602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Edinburgh Ex Pres. 2.jpg"/>
          <p:cNvPicPr/>
          <p:nvPr/>
        </p:nvPicPr>
        <p:blipFill>
          <a:blip r:embed="rId6"/>
          <a:stretch/>
        </p:blipFill>
        <p:spPr>
          <a:xfrm>
            <a:off x="4737240" y="333360"/>
            <a:ext cx="118080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West End  Assoc1.JPG"/>
          <p:cNvPicPr/>
          <p:nvPr/>
        </p:nvPicPr>
        <p:blipFill>
          <a:blip r:embed="rId7"/>
          <a:stretch/>
        </p:blipFill>
        <p:spPr>
          <a:xfrm>
            <a:off x="272880" y="333360"/>
            <a:ext cx="1170000" cy="1170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RETARIES  MILLENN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1:08:44Z</dcterms:created>
  <dc:creator>HP authorized customer</dc:creator>
  <dc:description/>
  <dc:language>en-US</dc:language>
  <cp:lastModifiedBy>John</cp:lastModifiedBy>
  <dcterms:modified xsi:type="dcterms:W3CDTF">2011-12-22T11:25:56Z</dcterms:modified>
  <cp:revision>26</cp:revision>
  <dc:subject/>
  <dc:title>Slide 1</dc:title>
</cp:coreProperties>
</file>